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zapbig0g.wav" ContentType="audio/x-wav"/>
  <Override PartName="/ppt/media/image7.wmf" ContentType="image/x-wmf"/>
  <Override PartName="/ppt/media/image11.wmf" ContentType="image/x-wmf"/>
  <Override PartName="/ppt/media/image6.wmf" ContentType="image/x-wmf"/>
  <Override PartName="/ppt/media/camera.wav" ContentType="audio/x-wav"/>
  <Override PartName="/ppt/media/image5.wmf" ContentType="image/x-wmf"/>
  <Override PartName="/ppt/media/image10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A589-69E4-4405-8A16-A9203315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60D3-3F46-4E95-944A-A0D3CFE5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5B9-F07F-434C-9D52-C82A23AB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8C7-547F-4CB3-B476-0BBE8271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8F9-2C29-4555-A868-7D1368A9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FFD-5EEC-4A37-9B50-0438A1F0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0D0-D67F-4390-83C7-BC27DE42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F44C-74FF-43EC-A61A-5D6528CD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2A4-5B77-485C-8992-FA798219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52B-C0E7-4622-A306-67F4DDB1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E72-BB70-4BD4-A657-228BED67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38E-9AE4-4B9E-875C-59B8E214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500E-4A69-4E06-85B7-EF7F7BD69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audio" Target="../media/zapbig0g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1676520"/>
            <a:ext cx="8686800" cy="4873680"/>
            <a:chOff x="228600" y="1676520"/>
            <a:chExt cx="8686800" cy="4873680"/>
          </a:xfrm>
        </p:grpSpPr>
        <p:sp>
          <p:nvSpPr>
            <p:cNvPr id="42" name=""/>
            <p:cNvSpPr/>
            <p:nvPr/>
          </p:nvSpPr>
          <p:spPr>
            <a:xfrm>
              <a:off x="228600" y="1676520"/>
              <a:ext cx="8686800" cy="48736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3280" y="3171960"/>
              <a:ext cx="865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49120" y="4608360"/>
              <a:ext cx="865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ynomial Vocabu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676520"/>
            <a:ext cx="571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degree of a term in a polynomi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the exponent of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273720" y="1703520"/>
          <a:ext cx="243216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3720" y="1703520"/>
                    <a:ext cx="243216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381720" y="244944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ee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02520" y="1741320"/>
          <a:ext cx="2252520" cy="13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2520" y="1741320"/>
                    <a:ext cx="225252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378480" y="2409840"/>
            <a:ext cx="21002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ee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483240" y="1762200"/>
          <a:ext cx="1846440" cy="13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83240" y="1762200"/>
                    <a:ext cx="184644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491160" y="2425680"/>
            <a:ext cx="21002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ee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1680" y="3325680"/>
            <a:ext cx="571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degree of a polynomi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the largest degree of its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362640" y="3192480"/>
          <a:ext cx="2432160" cy="13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62640" y="3192480"/>
                    <a:ext cx="243216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662880" y="3919680"/>
            <a:ext cx="21002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ee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754600" y="3209760"/>
          <a:ext cx="3017880" cy="135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54600" y="3209760"/>
                    <a:ext cx="301788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308640" y="3916440"/>
            <a:ext cx="21002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ee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600" y="4665600"/>
            <a:ext cx="5713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Standard form of a polynomi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when the terms are placed in descending order, from largest degree to smallest deg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772240" y="4799160"/>
          <a:ext cx="2820960" cy="14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72240" y="4799160"/>
                    <a:ext cx="282096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5765760" y="5568840"/>
          <a:ext cx="2789280" cy="617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65760" y="5568840"/>
                    <a:ext cx="278928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616720" y="4834080"/>
          <a:ext cx="3243240" cy="1415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16720" y="4834080"/>
                    <a:ext cx="324324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613480" y="5603760"/>
          <a:ext cx="3206520" cy="617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13480" y="5603760"/>
                    <a:ext cx="320652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47560" y="1644480"/>
                <a:ext cx="76629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74" name=""/>
          <p:cNvGraphicFramePr/>
          <p:nvPr/>
        </p:nvGraphicFramePr>
        <p:xfrm>
          <a:off x="2889360" y="1636560"/>
          <a:ext cx="143172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9360" y="1636560"/>
                    <a:ext cx="1431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01680" y="2481120"/>
                <a:ext cx="1624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33280" y="1133640"/>
            <a:ext cx="89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sum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717560" y="1743120"/>
                <a:ext cx="1098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018040" y="1782720"/>
                <a:ext cx="1220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718080" y="2744640"/>
                <a:ext cx="1120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3" name=""/>
          <p:cNvGraphicFramePr/>
          <p:nvPr/>
        </p:nvGraphicFramePr>
        <p:xfrm>
          <a:off x="6170760" y="1612800"/>
          <a:ext cx="1166760" cy="7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0760" y="1612800"/>
                    <a:ext cx="116676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333440" y="1781280"/>
                <a:ext cx="488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165800" y="1778040"/>
                <a:ext cx="879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832280" y="2608200"/>
                <a:ext cx="1063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49360" y="3898800"/>
                <a:ext cx="71834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89" name=""/>
          <p:cNvGraphicFramePr/>
          <p:nvPr/>
        </p:nvGraphicFramePr>
        <p:xfrm>
          <a:off x="2886120" y="3871800"/>
          <a:ext cx="1431720" cy="7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86120" y="3871800"/>
                    <a:ext cx="1431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247840" y="4792680"/>
                <a:ext cx="16797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417680" y="3976560"/>
                <a:ext cx="7189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273640" y="4100400"/>
                <a:ext cx="9777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741840" y="4894200"/>
                <a:ext cx="1457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5" name=""/>
          <p:cNvGraphicFramePr/>
          <p:nvPr/>
        </p:nvGraphicFramePr>
        <p:xfrm>
          <a:off x="6153120" y="3865680"/>
          <a:ext cx="1432080" cy="76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3120" y="3865680"/>
                    <a:ext cx="14320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049480" y="4033800"/>
                <a:ext cx="879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018040" y="4033800"/>
                <a:ext cx="3412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032440" y="4892760"/>
                <a:ext cx="10080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4560" y="3857760"/>
                <a:ext cx="75675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1" name=""/>
          <p:cNvGraphicFramePr/>
          <p:nvPr/>
        </p:nvGraphicFramePr>
        <p:xfrm>
          <a:off x="4983120" y="4103640"/>
          <a:ext cx="58428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3120" y="4103640"/>
                    <a:ext cx="584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411800" y="4054320"/>
          <a:ext cx="58392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1800" y="4054320"/>
                    <a:ext cx="5839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161120" y="3983040"/>
          <a:ext cx="58428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1120" y="3983040"/>
                    <a:ext cx="584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284880" y="4021200"/>
          <a:ext cx="58428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84880" y="4021200"/>
                    <a:ext cx="5842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22160" y="1682640"/>
                <a:ext cx="64184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4006800" y="1870200"/>
          <a:ext cx="584280" cy="40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06800" y="1870200"/>
                    <a:ext cx="584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532320" y="1860480"/>
          <a:ext cx="583920" cy="56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32320" y="1860480"/>
                    <a:ext cx="5839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667400" y="1846440"/>
          <a:ext cx="583920" cy="407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67400" y="1846440"/>
                    <a:ext cx="583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715000" y="1865160"/>
          <a:ext cx="58428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15000" y="1865160"/>
                    <a:ext cx="5842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637000" y="2674800"/>
                <a:ext cx="1174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233280" y="1133640"/>
            <a:ext cx="89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difference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65280" y="1930320"/>
                <a:ext cx="4651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48320" y="1819440"/>
                <a:ext cx="1220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610080" y="2776680"/>
                <a:ext cx="14554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5" name=""/>
          <p:cNvGraphicFramePr/>
          <p:nvPr/>
        </p:nvGraphicFramePr>
        <p:xfrm>
          <a:off x="5797440" y="1652760"/>
          <a:ext cx="1166760" cy="765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97440" y="1652760"/>
                    <a:ext cx="11667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21280" y="1800360"/>
                <a:ext cx="7808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975200" y="2801880"/>
                <a:ext cx="8953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9" name=""/>
          <p:cNvGraphicFramePr/>
          <p:nvPr/>
        </p:nvGraphicFramePr>
        <p:xfrm>
          <a:off x="2925720" y="3813120"/>
          <a:ext cx="1432080" cy="765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25720" y="3813120"/>
                    <a:ext cx="143208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405160" y="4753080"/>
                <a:ext cx="167940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476360" y="3916440"/>
                <a:ext cx="7192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303960" y="4041720"/>
                <a:ext cx="9777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925800" y="4854600"/>
                <a:ext cx="1401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5" name=""/>
          <p:cNvGraphicFramePr/>
          <p:nvPr/>
        </p:nvGraphicFramePr>
        <p:xfrm>
          <a:off x="5043600" y="3807000"/>
          <a:ext cx="1373040" cy="765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43600" y="3807000"/>
                    <a:ext cx="137304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66840" y="3975120"/>
                <a:ext cx="879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122960" y="3954600"/>
                <a:ext cx="8780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189400" y="4853160"/>
                <a:ext cx="10083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2052720" y="1674720"/>
          <a:ext cx="1431720" cy="765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052720" y="1674720"/>
                    <a:ext cx="1431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Polynomials in a Real-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18116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Find a model for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fference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in millions of dollars) of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pany 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ales and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Company 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ales from 1992 to 199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343240" y="2776680"/>
          <a:ext cx="635004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3240" y="2776680"/>
                    <a:ext cx="635004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54160" y="2967120"/>
            <a:ext cx="22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pany 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57560" y="4240080"/>
            <a:ext cx="647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49640" y="3394080"/>
                <a:ext cx="65181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127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5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345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14680" y="4303800"/>
                <a:ext cx="1447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9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206880" y="3595680"/>
                <a:ext cx="512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271440" y="3548160"/>
            <a:ext cx="22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Company 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977160" y="3554280"/>
                <a:ext cx="512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968720" y="3522600"/>
                <a:ext cx="5637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021280" y="4368960"/>
                <a:ext cx="16970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8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831000" y="4365720"/>
                <a:ext cx="14968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CCSS</cp:lastModifiedBy>
  <dcterms:modified xsi:type="dcterms:W3CDTF">2003-01-30T12:24:22Z</dcterms:modified>
  <cp:revision>50</cp:revision>
  <dc:subject/>
  <dc:title>No Slide Title</dc:title>
</cp:coreProperties>
</file>